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77DC-CD01-43BB-AA0A-6B580AF2D0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F3CD-05D5-4655-9D0D-C53B9B6BCDDB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0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F359-F058-4BE5-8658-660F298112D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328EC-41C8-4CD5-A7A2-DE13594A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A3A95-ADBF-4EA0-B597-30EA0600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5847E-0A77-448C-9F30-3C24299C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4C7B5-5023-4507-845F-5C0B2DD4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1869A-CFF5-479D-8812-3FA878CA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8CFAA-FFD8-4B7F-AF7A-9DEA9569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B7751-D312-4600-9342-AE35607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8067D-8FEC-4A80-B8D2-7701216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7EB5A-EC36-4098-B962-5F54E32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510E8-53AA-46CB-B032-7949113B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1643B-A49E-4AC4-A97A-20DF1D8A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4346E-0426-4D65-A617-95A12952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C527E6-0C28-4053-A343-2791E068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3F4BFB-D645-4429-8802-31322F64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8785A-764B-462D-ADC7-DD069A82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A33EE-C6F8-4DE9-AA1B-1C06326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9B4E0-3E98-4BF5-AA75-45282DB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5D656B-3532-45AB-81E3-F4702C7D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41E8D-2011-4CA2-B0E5-7F1B94B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F44E2-FC92-4CF2-B49E-365451E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84E882-19AD-47B1-B7BA-6128269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BBC1B-ABC0-4299-B4AF-3D896E43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D2836-16D4-4D6D-BAD6-AEB025F5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52AA2-73AD-4238-8646-AA19CC0E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3A90-F048-4B80-9EB3-DEF9BA2797D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F647-3D29-4037-8651-9E17052000D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6F55-1A19-4208-A08B-1069C2D54E2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784-FBA5-42D1-92AF-A6FE62853052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036F-16A6-4D68-9DF3-48129EE40B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968-B442-4291-9891-B320BFF0345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0ED8-254F-4A83-82CE-61064F218157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17859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5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치매의 이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11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2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진단 및 치료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6" name="그룹 34"/>
            <p:cNvGrpSpPr/>
            <p:nvPr/>
          </p:nvGrpSpPr>
          <p:grpSpPr>
            <a:xfrm>
              <a:off x="285480" y="857160"/>
              <a:ext cx="8643960" cy="1928880"/>
              <a:chOff x="285480" y="857160"/>
              <a:chExt cx="8643960" cy="1928880"/>
            </a:xfrm>
          </p:grpSpPr>
          <p:sp>
            <p:nvSpPr>
              <p:cNvPr id="527" name="AutoShape 2"/>
              <p:cNvSpPr/>
              <p:nvPr/>
            </p:nvSpPr>
            <p:spPr>
              <a:xfrm>
                <a:off x="285480" y="1366920"/>
                <a:ext cx="8643960" cy="1419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8" name="AutoShape 4"/>
              <p:cNvSpPr/>
              <p:nvPr/>
            </p:nvSpPr>
            <p:spPr>
              <a:xfrm>
                <a:off x="356760" y="857160"/>
                <a:ext cx="3959280" cy="47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예방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9" name="Text Box 6"/>
              <p:cNvSpPr/>
              <p:nvPr/>
            </p:nvSpPr>
            <p:spPr>
              <a:xfrm>
                <a:off x="356760" y="1428480"/>
                <a:ext cx="8501400" cy="12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원인이 밝혀지지 않은 치매가 많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밝혀진 원인 또한 매우 다양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확실한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법은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를 적극적으로 쓰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장병 등을 잘 관리하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적극적 사회활동 참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영양관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안전사고 예방 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세부 예방법 교재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161-162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0" name="그룹 34"/>
            <p:cNvGrpSpPr/>
            <p:nvPr/>
          </p:nvGrpSpPr>
          <p:grpSpPr>
            <a:xfrm>
              <a:off x="285480" y="2857320"/>
              <a:ext cx="8643960" cy="3500640"/>
              <a:chOff x="285480" y="2857320"/>
              <a:chExt cx="8643960" cy="3500640"/>
            </a:xfrm>
          </p:grpSpPr>
          <p:sp>
            <p:nvSpPr>
              <p:cNvPr id="531" name="AutoShape 2"/>
              <p:cNvSpPr/>
              <p:nvPr/>
            </p:nvSpPr>
            <p:spPr>
              <a:xfrm>
                <a:off x="285480" y="3346920"/>
                <a:ext cx="8643960" cy="3011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AutoShape 4"/>
              <p:cNvSpPr/>
              <p:nvPr/>
            </p:nvSpPr>
            <p:spPr>
              <a:xfrm>
                <a:off x="356760" y="2857320"/>
                <a:ext cx="4143240" cy="457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치매의 조기발견과 진단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Text Box 6"/>
              <p:cNvSpPr/>
              <p:nvPr/>
            </p:nvSpPr>
            <p:spPr>
              <a:xfrm>
                <a:off x="356760" y="3406320"/>
                <a:ext cx="850140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료가능성이 낮으므로 조기발견이 가장 바람직한 대응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선별검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5-8</a:t>
                </a:r>
                <a:r>
                  <a:rPr b="0" lang="ko-KR" sz="16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MMSE-K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세가와치매척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삼성치매척도를 이용한 선별검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예전과 뭔가 다르다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 판단되면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조기에 전문의에 의한 진단 필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진단과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 유무의 판단＋치매의 원인에 대한 진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환자는 언어장애로 자신의 생활이나 증상을 설명하는데 어려움이 있으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람들이 자세히 설명해주어야 함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진단의 전문적 검사의 종류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MRI, SPECT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환자는 치매진단이 두려워 병원진료를 거부하므로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다른 질병 검사를 이유로 진단 받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하는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그룹 17"/>
          <p:cNvGrpSpPr/>
          <p:nvPr/>
        </p:nvGrpSpPr>
        <p:grpSpPr>
          <a:xfrm>
            <a:off x="181080" y="71280"/>
            <a:ext cx="8820000" cy="6286680"/>
            <a:chOff x="181080" y="71280"/>
            <a:chExt cx="8820000" cy="6286680"/>
          </a:xfrm>
        </p:grpSpPr>
        <p:sp>
          <p:nvSpPr>
            <p:cNvPr id="535" name="AutoShape 2"/>
            <p:cNvSpPr/>
            <p:nvPr/>
          </p:nvSpPr>
          <p:spPr>
            <a:xfrm>
              <a:off x="181080" y="499680"/>
              <a:ext cx="8820000" cy="1214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AutoShape 4"/>
            <p:cNvSpPr/>
            <p:nvPr/>
          </p:nvSpPr>
          <p:spPr>
            <a:xfrm>
              <a:off x="21420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치매의 치료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7" name="그룹 2"/>
            <p:cNvGrpSpPr/>
            <p:nvPr/>
          </p:nvGrpSpPr>
          <p:grpSpPr>
            <a:xfrm>
              <a:off x="181080" y="1857240"/>
              <a:ext cx="8820000" cy="1807560"/>
              <a:chOff x="181080" y="1857240"/>
              <a:chExt cx="8820000" cy="1807560"/>
            </a:xfrm>
          </p:grpSpPr>
          <p:sp>
            <p:nvSpPr>
              <p:cNvPr id="538" name="AutoShape 2"/>
              <p:cNvSpPr/>
              <p:nvPr/>
            </p:nvSpPr>
            <p:spPr>
              <a:xfrm>
                <a:off x="181080" y="2194560"/>
                <a:ext cx="8820000" cy="1459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9" name="Text Box 6"/>
              <p:cNvSpPr/>
              <p:nvPr/>
            </p:nvSpPr>
            <p:spPr>
              <a:xfrm>
                <a:off x="285840" y="2226960"/>
                <a:ext cx="8643960" cy="14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과 정신증상 완화 약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 유지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리셉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엑셀론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 효과가 있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에는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과 없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작용 또한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증상 완화 약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불안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우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제 등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처음부터 약물에 의존하기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 다른 치료방법을 활용함이 것이 바람직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직사각형 5"/>
              <p:cNvSpPr/>
              <p:nvPr/>
            </p:nvSpPr>
            <p:spPr>
              <a:xfrm>
                <a:off x="214200" y="18572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약물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1" name="Text Box 6"/>
            <p:cNvSpPr/>
            <p:nvPr/>
          </p:nvSpPr>
          <p:spPr>
            <a:xfrm>
              <a:off x="285840" y="571320"/>
              <a:ext cx="87152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료가 불가능하다는 생각으로 치료를 포기하는 경우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러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-15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치료가 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제 가능한 치매도 최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5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에 이르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으므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극적 치료활동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2" name="그룹 8"/>
            <p:cNvGrpSpPr/>
            <p:nvPr/>
          </p:nvGrpSpPr>
          <p:grpSpPr>
            <a:xfrm>
              <a:off x="181080" y="3822840"/>
              <a:ext cx="8820000" cy="1320840"/>
              <a:chOff x="181080" y="3822840"/>
              <a:chExt cx="8820000" cy="1320840"/>
            </a:xfrm>
          </p:grpSpPr>
          <p:sp>
            <p:nvSpPr>
              <p:cNvPr id="543" name="AutoShape 2"/>
              <p:cNvSpPr/>
              <p:nvPr/>
            </p:nvSpPr>
            <p:spPr>
              <a:xfrm>
                <a:off x="181080" y="4160520"/>
                <a:ext cx="8820000" cy="983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4" name="Text Box 6"/>
              <p:cNvSpPr/>
              <p:nvPr/>
            </p:nvSpPr>
            <p:spPr>
              <a:xfrm>
                <a:off x="285840" y="4192560"/>
                <a:ext cx="8429760" cy="9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적 정신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지향적 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극지향적 치료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이 효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u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다는 보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care)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더욱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5" name="직사각형 11"/>
              <p:cNvSpPr/>
              <p:nvPr/>
            </p:nvSpPr>
            <p:spPr>
              <a:xfrm>
                <a:off x="214200" y="382284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정신사회적 치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46" name="그룹 13"/>
            <p:cNvGrpSpPr/>
            <p:nvPr/>
          </p:nvGrpSpPr>
          <p:grpSpPr>
            <a:xfrm>
              <a:off x="181080" y="5322960"/>
              <a:ext cx="8820000" cy="1035000"/>
              <a:chOff x="181080" y="5322960"/>
              <a:chExt cx="8820000" cy="1035000"/>
            </a:xfrm>
          </p:grpSpPr>
          <p:sp>
            <p:nvSpPr>
              <p:cNvPr id="547" name="AutoShape 2"/>
              <p:cNvSpPr/>
              <p:nvPr/>
            </p:nvSpPr>
            <p:spPr>
              <a:xfrm>
                <a:off x="181080" y="5660640"/>
                <a:ext cx="882000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Text Box 6"/>
              <p:cNvSpPr/>
              <p:nvPr/>
            </p:nvSpPr>
            <p:spPr>
              <a:xfrm>
                <a:off x="285840" y="5692680"/>
                <a:ext cx="84297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단계에서는 인지기능 유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간단계에서는 안전 사고의 예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말기단계에서는 식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 등의 기본적 일상생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직사각형 16"/>
              <p:cNvSpPr/>
              <p:nvPr/>
            </p:nvSpPr>
            <p:spPr>
              <a:xfrm>
                <a:off x="214200" y="53229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단계별 치료전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그룹 18"/>
          <p:cNvGrpSpPr/>
          <p:nvPr/>
        </p:nvGrpSpPr>
        <p:grpSpPr>
          <a:xfrm>
            <a:off x="0" y="0"/>
            <a:ext cx="9358200" cy="6452280"/>
            <a:chOff x="0" y="0"/>
            <a:chExt cx="9358200" cy="6452280"/>
          </a:xfrm>
        </p:grpSpPr>
        <p:pic>
          <p:nvPicPr>
            <p:cNvPr id="551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노인의 간호방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46"/>
            <p:cNvGrpSpPr/>
            <p:nvPr/>
          </p:nvGrpSpPr>
          <p:grpSpPr>
            <a:xfrm>
              <a:off x="285480" y="785520"/>
              <a:ext cx="8715600" cy="1643040"/>
              <a:chOff x="285480" y="785520"/>
              <a:chExt cx="8715600" cy="1643040"/>
            </a:xfrm>
          </p:grpSpPr>
          <p:sp>
            <p:nvSpPr>
              <p:cNvPr id="554" name="AutoShape 2"/>
              <p:cNvSpPr/>
              <p:nvPr/>
            </p:nvSpPr>
            <p:spPr>
              <a:xfrm>
                <a:off x="285480" y="114264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55" name="그룹 10"/>
              <p:cNvGrpSpPr/>
              <p:nvPr/>
            </p:nvGrpSpPr>
            <p:grpSpPr>
              <a:xfrm>
                <a:off x="356760" y="785520"/>
                <a:ext cx="8644320" cy="1621800"/>
                <a:chOff x="356760" y="785520"/>
                <a:chExt cx="8644320" cy="1621800"/>
              </a:xfrm>
            </p:grpSpPr>
            <p:sp>
              <p:nvSpPr>
                <p:cNvPr id="556" name="AutoShape 4"/>
                <p:cNvSpPr/>
                <p:nvPr/>
              </p:nvSpPr>
              <p:spPr>
                <a:xfrm>
                  <a:off x="356760" y="78552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치매노인의 간호원칙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6"/>
                <p:cNvSpPr/>
                <p:nvPr/>
              </p:nvSpPr>
              <p:spPr>
                <a:xfrm>
                  <a:off x="356760" y="122364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안전하고 익숙한 환경 유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규칙적 생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긴장과 피로의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적절한 자극의 제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도하고 불필요한 요구의 억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자 행동원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호방법의 이해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 활용 등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69-170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그룹 47"/>
            <p:cNvGrpSpPr/>
            <p:nvPr/>
          </p:nvGrpSpPr>
          <p:grpSpPr>
            <a:xfrm>
              <a:off x="285480" y="2571840"/>
              <a:ext cx="8715600" cy="1643040"/>
              <a:chOff x="285480" y="2571840"/>
              <a:chExt cx="8715600" cy="164304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480" y="2928960"/>
                <a:ext cx="871560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0" name="그룹 10"/>
              <p:cNvGrpSpPr/>
              <p:nvPr/>
            </p:nvGrpSpPr>
            <p:grpSpPr>
              <a:xfrm>
                <a:off x="356760" y="2571840"/>
                <a:ext cx="8644320" cy="1621800"/>
                <a:chOff x="356760" y="2571840"/>
                <a:chExt cx="8644320" cy="1621800"/>
              </a:xfrm>
            </p:grpSpPr>
            <p:sp>
              <p:nvSpPr>
                <p:cNvPr id="561" name="AutoShape 4"/>
                <p:cNvSpPr/>
                <p:nvPr/>
              </p:nvSpPr>
              <p:spPr>
                <a:xfrm>
                  <a:off x="356760" y="257184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의사소통 방법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6"/>
                <p:cNvSpPr/>
                <p:nvPr/>
              </p:nvSpPr>
              <p:spPr>
                <a:xfrm>
                  <a:off x="356760" y="3009960"/>
                  <a:ext cx="8644320" cy="118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의집중 시키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청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의 페이스에 맞춰 자주 대화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얼굴을 마주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고 비언어적 방법을 동시에 활용하는 등의 대화법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800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상세한 대화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0-171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그룹 52"/>
            <p:cNvGrpSpPr/>
            <p:nvPr/>
          </p:nvGrpSpPr>
          <p:grpSpPr>
            <a:xfrm>
              <a:off x="285480" y="4429080"/>
              <a:ext cx="8715600" cy="2023200"/>
              <a:chOff x="285480" y="4429080"/>
              <a:chExt cx="8715600" cy="202320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285480" y="4786200"/>
                <a:ext cx="8715600" cy="1643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65" name="그룹 10"/>
              <p:cNvGrpSpPr/>
              <p:nvPr/>
            </p:nvGrpSpPr>
            <p:grpSpPr>
              <a:xfrm>
                <a:off x="356760" y="4429080"/>
                <a:ext cx="8644320" cy="2023200"/>
                <a:chOff x="356760" y="4429080"/>
                <a:chExt cx="8644320" cy="2023200"/>
              </a:xfrm>
            </p:grpSpPr>
            <p:sp>
              <p:nvSpPr>
                <p:cNvPr id="566" name="AutoShape 4"/>
                <p:cNvSpPr/>
                <p:nvPr/>
              </p:nvSpPr>
              <p:spPr>
                <a:xfrm>
                  <a:off x="356760" y="4429080"/>
                  <a:ext cx="4643640" cy="360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1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일상생활 간호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67" name="Text Box 6"/>
                <p:cNvSpPr/>
                <p:nvPr/>
              </p:nvSpPr>
              <p:spPr>
                <a:xfrm>
                  <a:off x="356760" y="4867200"/>
                  <a:ext cx="8644320" cy="15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진행과 함께 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 감퇴하므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의 보완을 위한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본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care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법은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장의 방법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과 유사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4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목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화장실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리와 식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옷갈아입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운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주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흡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구강위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피부관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행과 이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71-175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그룹 11"/>
          <p:cNvGrpSpPr/>
          <p:nvPr/>
        </p:nvGrpSpPr>
        <p:grpSpPr>
          <a:xfrm>
            <a:off x="285840" y="142920"/>
            <a:ext cx="8715240" cy="6279480"/>
            <a:chOff x="285840" y="142920"/>
            <a:chExt cx="8715240" cy="6279480"/>
          </a:xfrm>
        </p:grpSpPr>
        <p:grpSp>
          <p:nvGrpSpPr>
            <p:cNvPr id="569" name="그룹 1"/>
            <p:cNvGrpSpPr/>
            <p:nvPr/>
          </p:nvGrpSpPr>
          <p:grpSpPr>
            <a:xfrm>
              <a:off x="285840" y="142920"/>
              <a:ext cx="8715240" cy="4500360"/>
              <a:chOff x="285840" y="142920"/>
              <a:chExt cx="8715240" cy="4500360"/>
            </a:xfrm>
          </p:grpSpPr>
          <p:sp>
            <p:nvSpPr>
              <p:cNvPr id="570" name="AutoShape 2"/>
              <p:cNvSpPr/>
              <p:nvPr/>
            </p:nvSpPr>
            <p:spPr>
              <a:xfrm>
                <a:off x="285840" y="517680"/>
                <a:ext cx="8715240" cy="4125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1" name="그룹 10"/>
              <p:cNvGrpSpPr/>
              <p:nvPr/>
            </p:nvGrpSpPr>
            <p:grpSpPr>
              <a:xfrm>
                <a:off x="357120" y="142920"/>
                <a:ext cx="7929720" cy="4406400"/>
                <a:chOff x="357120" y="142920"/>
                <a:chExt cx="7929720" cy="4406400"/>
              </a:xfrm>
            </p:grpSpPr>
            <p:sp>
              <p:nvSpPr>
                <p:cNvPr id="572" name="AutoShape 4"/>
                <p:cNvSpPr/>
                <p:nvPr/>
              </p:nvSpPr>
              <p:spPr>
                <a:xfrm>
                  <a:off x="357120" y="142920"/>
                  <a:ext cx="5400720" cy="448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증상과 문제행동에 대한 대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6"/>
                <p:cNvSpPr/>
                <p:nvPr/>
              </p:nvSpPr>
              <p:spPr>
                <a:xfrm>
                  <a:off x="642600" y="674640"/>
                  <a:ext cx="7644240" cy="38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기억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회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원예 등의 반복과 지속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동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편안하게 느끼는 사람과 자주 접촉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번호 등을 명기한 배회 팔찌나 위치추적기 착용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망상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도둑 망상에 대비해 예비 물건 준비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집벽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훈계하지 않고 되돌려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격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환자 안정 및 주의 돌리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석양증후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조명 밝게 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같이 있어 주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면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낮 동안 가벼운 운동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욕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성적 이상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배변 등 수용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섭식장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간식준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위험한 물질 치우기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행동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다른 바람직한 행동으로 유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심 돌리기 등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4" name="그룹 6"/>
            <p:cNvGrpSpPr/>
            <p:nvPr/>
          </p:nvGrpSpPr>
          <p:grpSpPr>
            <a:xfrm>
              <a:off x="285840" y="4846680"/>
              <a:ext cx="8715240" cy="1575720"/>
              <a:chOff x="285840" y="4846680"/>
              <a:chExt cx="8715240" cy="157572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285840" y="5203800"/>
                <a:ext cx="8715240" cy="1214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6" name="그룹 10"/>
              <p:cNvGrpSpPr/>
              <p:nvPr/>
            </p:nvGrpSpPr>
            <p:grpSpPr>
              <a:xfrm>
                <a:off x="357120" y="4846680"/>
                <a:ext cx="7929720" cy="1575720"/>
                <a:chOff x="357120" y="4846680"/>
                <a:chExt cx="7929720" cy="1575720"/>
              </a:xfrm>
            </p:grpSpPr>
            <p:sp>
              <p:nvSpPr>
                <p:cNvPr id="577" name="AutoShape 4"/>
                <p:cNvSpPr/>
                <p:nvPr/>
              </p:nvSpPr>
              <p:spPr>
                <a:xfrm>
                  <a:off x="357120" y="4846680"/>
                  <a:ext cx="540072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5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전관리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6"/>
                <p:cNvSpPr/>
                <p:nvPr/>
              </p:nvSpPr>
              <p:spPr>
                <a:xfrm>
                  <a:off x="642600" y="5352840"/>
                  <a:ext cx="7644240" cy="106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은 기억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장애 등으로 사고 위험성 증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상생활 습관을 정확히 이해하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고를 예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전 대비해야 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세한 안전사고 예방 및 대처방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81-182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쪽 참조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그룹 8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pic>
          <p:nvPicPr>
            <p:cNvPr id="58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치매가족의 부양부담과 지원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2" name="그룹 21"/>
            <p:cNvGrpSpPr/>
            <p:nvPr/>
          </p:nvGrpSpPr>
          <p:grpSpPr>
            <a:xfrm>
              <a:off x="285480" y="714240"/>
              <a:ext cx="8715600" cy="5715000"/>
              <a:chOff x="285480" y="714240"/>
              <a:chExt cx="8715600" cy="5715000"/>
            </a:xfrm>
          </p:grpSpPr>
          <p:sp>
            <p:nvSpPr>
              <p:cNvPr id="583" name="AutoShape 2"/>
              <p:cNvSpPr/>
              <p:nvPr/>
            </p:nvSpPr>
            <p:spPr>
              <a:xfrm>
                <a:off x="285480" y="1214280"/>
                <a:ext cx="8715600" cy="5214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84" name="그룹 10"/>
              <p:cNvGrpSpPr/>
              <p:nvPr/>
            </p:nvGrpSpPr>
            <p:grpSpPr>
              <a:xfrm>
                <a:off x="285480" y="714240"/>
                <a:ext cx="8572680" cy="5576760"/>
                <a:chOff x="285480" y="714240"/>
                <a:chExt cx="8572680" cy="5576760"/>
              </a:xfrm>
            </p:grpSpPr>
            <p:sp>
              <p:nvSpPr>
                <p:cNvPr id="585" name="AutoShape 4"/>
                <p:cNvSpPr/>
                <p:nvPr/>
              </p:nvSpPr>
              <p:spPr>
                <a:xfrm>
                  <a:off x="285480" y="714240"/>
                  <a:ext cx="5400720" cy="46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부양자의 부양부담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6" name="Text Box 6"/>
                <p:cNvSpPr/>
                <p:nvPr/>
              </p:nvSpPr>
              <p:spPr>
                <a:xfrm>
                  <a:off x="356760" y="1357200"/>
                  <a:ext cx="8501400" cy="493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 부양으로 가족 결속력 증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자 자존감과 유능성 증진 등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긍정적 효과가 없는 것은 아니나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distres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 더 많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9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hidden patient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서 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The 36-hours’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를 사는 사람들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의 부양부담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 영역으로 나뉘어짐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교재 </a:t>
                  </a: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182-184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쪽 참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활동제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심리적 부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재정부담과 경제활동 제약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강의 부정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노인과의 갈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601"/>
                    </a:spcBef>
                    <a:buClr>
                      <a:srgbClr val="c00000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체 가족간의 갈등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3"/>
          <p:cNvGrpSpPr/>
          <p:nvPr/>
        </p:nvGrpSpPr>
        <p:grpSpPr>
          <a:xfrm>
            <a:off x="214200" y="71280"/>
            <a:ext cx="8715600" cy="6643800"/>
            <a:chOff x="214200" y="71280"/>
            <a:chExt cx="8715600" cy="6643800"/>
          </a:xfrm>
        </p:grpSpPr>
        <p:grpSp>
          <p:nvGrpSpPr>
            <p:cNvPr id="588" name="그룹 12"/>
            <p:cNvGrpSpPr/>
            <p:nvPr/>
          </p:nvGrpSpPr>
          <p:grpSpPr>
            <a:xfrm>
              <a:off x="214200" y="5816520"/>
              <a:ext cx="7572600" cy="898560"/>
              <a:chOff x="214200" y="5816520"/>
              <a:chExt cx="7572600" cy="898560"/>
            </a:xfrm>
          </p:grpSpPr>
          <p:pic>
            <p:nvPicPr>
              <p:cNvPr id="5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14200" y="581652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Rectangle 4"/>
              <p:cNvSpPr/>
              <p:nvPr/>
            </p:nvSpPr>
            <p:spPr>
              <a:xfrm>
                <a:off x="1071360" y="600048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여가생활과 교육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1" name="그룹 22"/>
            <p:cNvGrpSpPr/>
            <p:nvPr/>
          </p:nvGrpSpPr>
          <p:grpSpPr>
            <a:xfrm>
              <a:off x="285480" y="642600"/>
              <a:ext cx="8644320" cy="5255640"/>
              <a:chOff x="285480" y="642600"/>
              <a:chExt cx="8644320" cy="5255640"/>
            </a:xfrm>
          </p:grpSpPr>
          <p:sp>
            <p:nvSpPr>
              <p:cNvPr id="592" name="AutoShape 2"/>
              <p:cNvSpPr/>
              <p:nvPr/>
            </p:nvSpPr>
            <p:spPr>
              <a:xfrm>
                <a:off x="285480" y="3571920"/>
                <a:ext cx="8644320" cy="228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3" name="AutoShape 2"/>
              <p:cNvSpPr/>
              <p:nvPr/>
            </p:nvSpPr>
            <p:spPr>
              <a:xfrm>
                <a:off x="285480" y="999720"/>
                <a:ext cx="864432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356760" y="999720"/>
                <a:ext cx="8501760" cy="21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심리교육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자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워크숍 등과 유사한 방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과 정보제공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구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급적 동질적 집단이 바람직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방과 폐쇄집단 모두 활용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의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임상적 이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정보 및 자원연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조모임 조직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도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~2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명의 전문가가 지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생적 지도력 개발이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의사항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ession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길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보호서비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합장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송서비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직사각형 17"/>
              <p:cNvSpPr/>
              <p:nvPr/>
            </p:nvSpPr>
            <p:spPr>
              <a:xfrm>
                <a:off x="285480" y="642600"/>
                <a:ext cx="50724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Arial"/>
                  </a:rPr>
                  <a:t>Educational Support Group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96" name="그룹 10"/>
              <p:cNvGrpSpPr/>
              <p:nvPr/>
            </p:nvGrpSpPr>
            <p:grpSpPr>
              <a:xfrm>
                <a:off x="285480" y="3214440"/>
                <a:ext cx="8644320" cy="2683800"/>
                <a:chOff x="285480" y="3214440"/>
                <a:chExt cx="8644320" cy="2683800"/>
              </a:xfrm>
            </p:grpSpPr>
            <p:sp>
              <p:nvSpPr>
                <p:cNvPr id="597" name="직사각형 18"/>
                <p:cNvSpPr/>
                <p:nvPr/>
              </p:nvSpPr>
              <p:spPr>
                <a:xfrm>
                  <a:off x="285480" y="3214440"/>
                  <a:ext cx="664416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buSzPct val="102909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 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치매가족 상담과 치료</a:t>
                  </a:r>
                  <a:r>
                    <a:rPr b="0" lang="en-US" sz="2200" spc="-1" strike="noStrike">
                      <a:solidFill>
                        <a:srgbClr val="c00000"/>
                      </a:solidFill>
                      <a:latin typeface="Arial"/>
                    </a:rPr>
                    <a:t>, </a:t>
                  </a:r>
                  <a:r>
                    <a:rPr b="0" lang="ko-KR" sz="2200" spc="-1" strike="noStrike">
                      <a:solidFill>
                        <a:srgbClr val="c00000"/>
                      </a:solidFill>
                      <a:latin typeface="Arial"/>
                    </a:rPr>
                    <a:t>사회서비스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98" name="Text Box 6"/>
                <p:cNvSpPr/>
                <p:nvPr/>
              </p:nvSpPr>
              <p:spPr>
                <a:xfrm>
                  <a:off x="356760" y="3642840"/>
                  <a:ext cx="8573040" cy="22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화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 전문지식 갖춘 상담자가 담당 바람직함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치매상담콜센터 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1899-9988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상담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능한 한 빠른 응답 필요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상담과 치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통적 가족치료보다는 부양협력체계 구축을 통한 역기능적 상호작용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반복 차단 바람직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5-3 </a:t>
                  </a:r>
                  <a:r>
                    <a:rPr b="0" lang="ko-KR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휴식서비스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사지원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방문간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주간보호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가서비스 등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치매가족 자조집단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족에 의한 비구조화된 집단운영이 바람직하지만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초기에는 전문가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입이 필요하며</a:t>
                  </a:r>
                  <a:r>
                    <a:rPr b="0" lang="en-US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지지집단과 유사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중앙치매센터 우리동네 가족모임</a:t>
                  </a:r>
                  <a:r>
                    <a:rPr b="0" lang="en-US" sz="1600" spc="-1" strike="noStrike">
                      <a:solidFill>
                        <a:srgbClr val="ff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AutoShape 4"/>
            <p:cNvSpPr/>
            <p:nvPr/>
          </p:nvSpPr>
          <p:spPr>
            <a:xfrm>
              <a:off x="356760" y="71280"/>
              <a:ext cx="540072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치매가족 지원방안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원인과 증상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가족의 부양부담과 지원방안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AutoShape 4"/>
            <p:cNvSpPr/>
            <p:nvPr/>
          </p:nvSpPr>
          <p:spPr>
            <a:xfrm>
              <a:off x="1622520" y="1833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개념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AutoShape 4"/>
            <p:cNvSpPr/>
            <p:nvPr/>
          </p:nvSpPr>
          <p:spPr>
            <a:xfrm>
              <a:off x="1643040" y="2769840"/>
              <a:ext cx="7199280" cy="671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원인과 유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AutoShape 4"/>
            <p:cNvSpPr/>
            <p:nvPr/>
          </p:nvSpPr>
          <p:spPr>
            <a:xfrm>
              <a:off x="1622520" y="370656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주요 증상과 진행과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AutoShape 4"/>
            <p:cNvSpPr/>
            <p:nvPr/>
          </p:nvSpPr>
          <p:spPr>
            <a:xfrm>
              <a:off x="1643040" y="4643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매의 예방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진단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치료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간호방법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43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5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치매의 이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그룹 11"/>
          <p:cNvGrpSpPr/>
          <p:nvPr/>
        </p:nvGrpSpPr>
        <p:grpSpPr>
          <a:xfrm>
            <a:off x="0" y="0"/>
            <a:ext cx="9144000" cy="6076800"/>
            <a:chOff x="0" y="0"/>
            <a:chExt cx="9144000" cy="6076800"/>
          </a:xfrm>
        </p:grpSpPr>
        <p:sp>
          <p:nvSpPr>
            <p:cNvPr id="446" name="AutoShape 2"/>
            <p:cNvSpPr/>
            <p:nvPr/>
          </p:nvSpPr>
          <p:spPr>
            <a:xfrm>
              <a:off x="180720" y="1714320"/>
              <a:ext cx="882036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0" y="1139760"/>
              <a:ext cx="8820720" cy="1992600"/>
              <a:chOff x="0" y="1139760"/>
              <a:chExt cx="8820720" cy="199260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0" y="1139760"/>
                <a:ext cx="857304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용어의 의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85480" y="1819080"/>
                <a:ext cx="8535240" cy="13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mentia=de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없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+ ment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정신이 아니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이 나갔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癡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한다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심이 많아지는 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痴呆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어 기댄다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앎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아는 것에 병이 듦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2" name="AutoShape 2"/>
            <p:cNvSpPr/>
            <p:nvPr/>
          </p:nvSpPr>
          <p:spPr>
            <a:xfrm>
              <a:off x="180720" y="4000680"/>
              <a:ext cx="88203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3" name="그룹 10"/>
            <p:cNvGrpSpPr/>
            <p:nvPr/>
          </p:nvGrpSpPr>
          <p:grpSpPr>
            <a:xfrm>
              <a:off x="142560" y="3500640"/>
              <a:ext cx="8786880" cy="2576160"/>
              <a:chOff x="142560" y="3500640"/>
              <a:chExt cx="8786880" cy="2576160"/>
            </a:xfrm>
          </p:grpSpPr>
          <p:sp>
            <p:nvSpPr>
              <p:cNvPr id="454" name="AutoShape 29"/>
              <p:cNvSpPr/>
              <p:nvPr/>
            </p:nvSpPr>
            <p:spPr>
              <a:xfrm>
                <a:off x="142560" y="350064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개념정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Text Box 25"/>
              <p:cNvSpPr/>
              <p:nvPr/>
            </p:nvSpPr>
            <p:spPr>
              <a:xfrm>
                <a:off x="290160" y="4000680"/>
                <a:ext cx="8639280" cy="20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병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腦病變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의해 기억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남력 장애 등의 인지기능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등 정신기능이 감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ADL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가 수반되어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적 사회활동과 대인관계에 장애를 초래하는 노년기의 대표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mental disorder)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노인의 뇌구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그룹 1"/>
          <p:cNvGrpSpPr/>
          <p:nvPr/>
        </p:nvGrpSpPr>
        <p:grpSpPr>
          <a:xfrm>
            <a:off x="214200" y="142920"/>
            <a:ext cx="8572680" cy="6215040"/>
            <a:chOff x="214200" y="142920"/>
            <a:chExt cx="8572680" cy="6215040"/>
          </a:xfrm>
        </p:grpSpPr>
        <p:grpSp>
          <p:nvGrpSpPr>
            <p:cNvPr id="457" name="그룹 1"/>
            <p:cNvGrpSpPr/>
            <p:nvPr/>
          </p:nvGrpSpPr>
          <p:grpSpPr>
            <a:xfrm>
              <a:off x="394920" y="714240"/>
              <a:ext cx="8320320" cy="5643720"/>
              <a:chOff x="394920" y="714240"/>
              <a:chExt cx="8320320" cy="5643720"/>
            </a:xfrm>
          </p:grpSpPr>
          <p:sp>
            <p:nvSpPr>
              <p:cNvPr id="458" name="AutoShape 2"/>
              <p:cNvSpPr/>
              <p:nvPr/>
            </p:nvSpPr>
            <p:spPr>
              <a:xfrm>
                <a:off x="394920" y="714240"/>
                <a:ext cx="8320320" cy="5643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6"/>
              <p:cNvSpPr/>
              <p:nvPr/>
            </p:nvSpPr>
            <p:spPr>
              <a:xfrm>
                <a:off x="570960" y="960120"/>
                <a:ext cx="7858440" cy="52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뇌병변에 의한 기질성 정신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우울증으로 인지기능 저하와 치매증상을 보이는 가성치매와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천적 인지기능 장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선천적 인지기능장애를 지닌 지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애와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로 노년기에 발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기에 발병하는 조발성 치매가 있으나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주로 노년기에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원인과 증상이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가지 이상의 원인에 의해 발병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인에 따라 증상이 상이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신기능과 삶 전체의 황폐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치료가능성이 낮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등 전체 삶의 황폐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매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식장애 없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의식장애를 주된 증상으로 하는 섬망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delirium)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과는 다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HY강B"/>
                </a:rPr>
                <a:t>치매의 특성과 감별진단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그룹 11"/>
          <p:cNvGrpSpPr/>
          <p:nvPr/>
        </p:nvGrpSpPr>
        <p:grpSpPr>
          <a:xfrm>
            <a:off x="0" y="0"/>
            <a:ext cx="9144000" cy="6403320"/>
            <a:chOff x="0" y="0"/>
            <a:chExt cx="9144000" cy="6403320"/>
          </a:xfrm>
        </p:grpSpPr>
        <p:pic>
          <p:nvPicPr>
            <p:cNvPr id="46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치매의 원인과 유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4" name="그룹 17"/>
            <p:cNvGrpSpPr/>
            <p:nvPr/>
          </p:nvGrpSpPr>
          <p:grpSpPr>
            <a:xfrm>
              <a:off x="285480" y="857160"/>
              <a:ext cx="8606160" cy="2571840"/>
              <a:chOff x="285480" y="857160"/>
              <a:chExt cx="8606160" cy="257184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285480" y="1285560"/>
                <a:ext cx="8606160" cy="2143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Text Box 25"/>
              <p:cNvSpPr/>
              <p:nvPr/>
            </p:nvSpPr>
            <p:spPr>
              <a:xfrm>
                <a:off x="356760" y="1430280"/>
                <a:ext cx="8430120" cy="19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암 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악성 신생물’이 다양한 원인에 의해 발병하는 암을 통칭하듯이‘치매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시 뇌 손상이나 병변에 의한 기질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氣質性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통칭하는 용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과 질환 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이상의 뇌손상과 뇌병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발병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정도만 원인이 밝혀진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8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의 원인성 질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AutoShape 4"/>
              <p:cNvSpPr/>
              <p:nvPr/>
            </p:nvSpPr>
            <p:spPr>
              <a:xfrm>
                <a:off x="356760" y="857160"/>
                <a:ext cx="3240000" cy="428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원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18"/>
            <p:cNvGrpSpPr/>
            <p:nvPr/>
          </p:nvGrpSpPr>
          <p:grpSpPr>
            <a:xfrm>
              <a:off x="285480" y="3504240"/>
              <a:ext cx="8712360" cy="2899080"/>
              <a:chOff x="285480" y="3504240"/>
              <a:chExt cx="8712360" cy="289908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285480" y="4023000"/>
                <a:ext cx="8606880" cy="2380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25"/>
              <p:cNvSpPr/>
              <p:nvPr/>
            </p:nvSpPr>
            <p:spPr>
              <a:xfrm>
                <a:off x="356760" y="4026240"/>
                <a:ext cx="8641080" cy="236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인에 의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ICD-10 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동 또는 신경발달장애 중 신경인지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SM-5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인지장애로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 하위질병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가능성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가능한 가역성 치매  </a:t>
                </a:r>
                <a:r>
                  <a:rPr b="1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 불가능한 비가역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8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병 연령에 의한 분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이전에 발병하는 초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조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노년기에 발병하는 노인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만발성 치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분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AutoShape 4"/>
              <p:cNvSpPr/>
              <p:nvPr/>
            </p:nvSpPr>
            <p:spPr>
              <a:xfrm>
                <a:off x="356760" y="3504240"/>
                <a:ext cx="3240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유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8"/>
          <p:cNvGrpSpPr/>
          <p:nvPr/>
        </p:nvGrpSpPr>
        <p:grpSpPr>
          <a:xfrm>
            <a:off x="285840" y="0"/>
            <a:ext cx="8643960" cy="6429240"/>
            <a:chOff x="285840" y="0"/>
            <a:chExt cx="8643960" cy="6429240"/>
          </a:xfrm>
        </p:grpSpPr>
        <p:grpSp>
          <p:nvGrpSpPr>
            <p:cNvPr id="473" name="그룹 1"/>
            <p:cNvGrpSpPr/>
            <p:nvPr/>
          </p:nvGrpSpPr>
          <p:grpSpPr>
            <a:xfrm>
              <a:off x="285840" y="571320"/>
              <a:ext cx="8643960" cy="1643040"/>
              <a:chOff x="285840" y="571320"/>
              <a:chExt cx="8643960" cy="1643040"/>
            </a:xfrm>
          </p:grpSpPr>
          <p:sp>
            <p:nvSpPr>
              <p:cNvPr id="474" name="AutoShape 2"/>
              <p:cNvSpPr/>
              <p:nvPr/>
            </p:nvSpPr>
            <p:spPr>
              <a:xfrm>
                <a:off x="285840" y="973440"/>
                <a:ext cx="8643960" cy="1240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Text Box 6"/>
              <p:cNvSpPr/>
              <p:nvPr/>
            </p:nvSpPr>
            <p:spPr>
              <a:xfrm>
                <a:off x="357120" y="933120"/>
                <a:ext cx="8572680" cy="125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체 치매의 최소 절반 이상을 차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한 원인 없이 뇌세포가 괴사하여  인지기능이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퇴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반 기능이 저하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점진적 진행과정을 보이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병 초기에는 건망증 정도로 오인하기 쉬우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기발견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렵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직사각형 5"/>
              <p:cNvSpPr/>
              <p:nvPr/>
            </p:nvSpPr>
            <p:spPr>
              <a:xfrm>
                <a:off x="285840" y="5713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츠하이머형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7" name="AutoShape 4"/>
            <p:cNvSpPr/>
            <p:nvPr/>
          </p:nvSpPr>
          <p:spPr>
            <a:xfrm>
              <a:off x="285840" y="0"/>
              <a:ext cx="33573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주요 치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8" name="그룹 20"/>
            <p:cNvGrpSpPr/>
            <p:nvPr/>
          </p:nvGrpSpPr>
          <p:grpSpPr>
            <a:xfrm>
              <a:off x="285840" y="2286000"/>
              <a:ext cx="8643960" cy="1428480"/>
              <a:chOff x="285840" y="2286000"/>
              <a:chExt cx="8643960" cy="1428480"/>
            </a:xfrm>
          </p:grpSpPr>
          <p:sp>
            <p:nvSpPr>
              <p:cNvPr id="479" name="AutoShape 2"/>
              <p:cNvSpPr/>
              <p:nvPr/>
            </p:nvSpPr>
            <p:spPr>
              <a:xfrm>
                <a:off x="285840" y="2688120"/>
                <a:ext cx="8643960" cy="1026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6"/>
              <p:cNvSpPr/>
              <p:nvPr/>
            </p:nvSpPr>
            <p:spPr>
              <a:xfrm>
                <a:off x="357120" y="268416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당뇨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질환 등에 의한 뇌출혈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경색 등 뇌혈관질환이 그 원인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두번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치매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계적 진행과정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가능하나 원상태로의 회복 불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직사각형 23"/>
              <p:cNvSpPr/>
              <p:nvPr/>
            </p:nvSpPr>
            <p:spPr>
              <a:xfrm>
                <a:off x="285840" y="228600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혈관성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2" name="그룹 24"/>
            <p:cNvGrpSpPr/>
            <p:nvPr/>
          </p:nvGrpSpPr>
          <p:grpSpPr>
            <a:xfrm>
              <a:off x="285840" y="3786120"/>
              <a:ext cx="8643960" cy="1428480"/>
              <a:chOff x="285840" y="3786120"/>
              <a:chExt cx="8643960" cy="142848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285840" y="4169880"/>
                <a:ext cx="8643960" cy="104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6"/>
              <p:cNvSpPr/>
              <p:nvPr/>
            </p:nvSpPr>
            <p:spPr>
              <a:xfrm>
                <a:off x="357120" y="4186080"/>
                <a:ext cx="8572680" cy="102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 흑질의 도파민 부족으로 인한 신체 떨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마비 등의 운동장애이지만 말기에는 치매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전되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물치료로 운동장애 완화될 수 있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성적 퇴행과정 거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27"/>
              <p:cNvSpPr/>
              <p:nvPr/>
            </p:nvSpPr>
            <p:spPr>
              <a:xfrm>
                <a:off x="285840" y="378612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파킨슨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36"/>
            <p:cNvGrpSpPr/>
            <p:nvPr/>
          </p:nvGrpSpPr>
          <p:grpSpPr>
            <a:xfrm>
              <a:off x="285840" y="5357880"/>
              <a:ext cx="8643960" cy="1071360"/>
              <a:chOff x="285840" y="5357880"/>
              <a:chExt cx="8643960" cy="107136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285840" y="574200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6"/>
              <p:cNvSpPr/>
              <p:nvPr/>
            </p:nvSpPr>
            <p:spPr>
              <a:xfrm>
                <a:off x="357120" y="570384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장년기에 뇌 전두엽에서 발생하는 픽병으로 인하여 치매가 되는 경우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초기에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가 심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성격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나타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39"/>
              <p:cNvSpPr/>
              <p:nvPr/>
            </p:nvSpPr>
            <p:spPr>
              <a:xfrm>
                <a:off x="285840" y="53578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픽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그룹 21"/>
          <p:cNvGrpSpPr/>
          <p:nvPr/>
        </p:nvGrpSpPr>
        <p:grpSpPr>
          <a:xfrm>
            <a:off x="285840" y="71280"/>
            <a:ext cx="9072360" cy="6429240"/>
            <a:chOff x="285840" y="71280"/>
            <a:chExt cx="9072360" cy="6429240"/>
          </a:xfrm>
        </p:grpSpPr>
        <p:grpSp>
          <p:nvGrpSpPr>
            <p:cNvPr id="491" name="그룹 1"/>
            <p:cNvGrpSpPr/>
            <p:nvPr/>
          </p:nvGrpSpPr>
          <p:grpSpPr>
            <a:xfrm>
              <a:off x="285840" y="71280"/>
              <a:ext cx="8643960" cy="1428840"/>
              <a:chOff x="285840" y="71280"/>
              <a:chExt cx="8643960" cy="1428840"/>
            </a:xfrm>
          </p:grpSpPr>
          <p:sp>
            <p:nvSpPr>
              <p:cNvPr id="492" name="AutoShape 2"/>
              <p:cNvSpPr/>
              <p:nvPr/>
            </p:nvSpPr>
            <p:spPr>
              <a:xfrm>
                <a:off x="285840" y="473400"/>
                <a:ext cx="8643960" cy="1026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Text Box 6"/>
              <p:cNvSpPr/>
              <p:nvPr/>
            </p:nvSpPr>
            <p:spPr>
              <a:xfrm>
                <a:off x="357120" y="515880"/>
                <a:ext cx="857268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-5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에 유전성 질환인 헌팅톤병에 의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손발과 얼굴 근육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 등을 보이는 장애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가 불가능하지만 약물로 신체장애와 정신병적 증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절은 가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직사각형 5"/>
              <p:cNvSpPr/>
              <p:nvPr/>
            </p:nvSpPr>
            <p:spPr>
              <a:xfrm>
                <a:off x="285840" y="7128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헌팅톤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5" name="그룹 20"/>
            <p:cNvGrpSpPr/>
            <p:nvPr/>
          </p:nvGrpSpPr>
          <p:grpSpPr>
            <a:xfrm>
              <a:off x="285840" y="1643040"/>
              <a:ext cx="8643960" cy="1143000"/>
              <a:chOff x="285840" y="1643040"/>
              <a:chExt cx="8643960" cy="1143000"/>
            </a:xfrm>
          </p:grpSpPr>
          <p:sp>
            <p:nvSpPr>
              <p:cNvPr id="496" name="AutoShape 2"/>
              <p:cNvSpPr/>
              <p:nvPr/>
            </p:nvSpPr>
            <p:spPr>
              <a:xfrm>
                <a:off x="285840" y="204516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357120" y="207180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결핍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술 해독시의 아세트알데히드에 의한 뇌손상으로 기억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장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증상을 보이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주 및 비타민 투여시 증상 호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직사각형 23"/>
              <p:cNvSpPr/>
              <p:nvPr/>
            </p:nvSpPr>
            <p:spPr>
              <a:xfrm>
                <a:off x="285840" y="1643040"/>
                <a:ext cx="507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알코올성 치매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(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코르사코프 증후군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9" name="그룹 24"/>
            <p:cNvGrpSpPr/>
            <p:nvPr/>
          </p:nvGrpSpPr>
          <p:grpSpPr>
            <a:xfrm>
              <a:off x="285840" y="3000240"/>
              <a:ext cx="8643960" cy="1142640"/>
              <a:chOff x="285840" y="3000240"/>
              <a:chExt cx="8643960" cy="1142640"/>
            </a:xfrm>
          </p:grpSpPr>
          <p:sp>
            <p:nvSpPr>
              <p:cNvPr id="500" name="AutoShape 2"/>
              <p:cNvSpPr/>
              <p:nvPr/>
            </p:nvSpPr>
            <p:spPr>
              <a:xfrm>
                <a:off x="285840" y="3418920"/>
                <a:ext cx="8643960" cy="687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6"/>
              <p:cNvSpPr/>
              <p:nvPr/>
            </p:nvSpPr>
            <p:spPr>
              <a:xfrm>
                <a:off x="357120" y="3435120"/>
                <a:ext cx="857268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우병 바이러스에 의한 뇌손상으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와 운동장애가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되면 정신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상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식불명 상태에 이르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직사각형 27"/>
              <p:cNvSpPr/>
              <p:nvPr/>
            </p:nvSpPr>
            <p:spPr>
              <a:xfrm>
                <a:off x="285840" y="3000240"/>
                <a:ext cx="471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Creutzfelt-Jacob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병에 의한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3" name="그룹 36"/>
            <p:cNvGrpSpPr/>
            <p:nvPr/>
          </p:nvGrpSpPr>
          <p:grpSpPr>
            <a:xfrm>
              <a:off x="285840" y="5643720"/>
              <a:ext cx="9072360" cy="856800"/>
              <a:chOff x="285840" y="5643720"/>
              <a:chExt cx="9072360" cy="856800"/>
            </a:xfrm>
          </p:grpSpPr>
          <p:sp>
            <p:nvSpPr>
              <p:cNvPr id="504" name="AutoShape 2"/>
              <p:cNvSpPr/>
              <p:nvPr/>
            </p:nvSpPr>
            <p:spPr>
              <a:xfrm>
                <a:off x="285840" y="6072120"/>
                <a:ext cx="864396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Text Box 6"/>
              <p:cNvSpPr/>
              <p:nvPr/>
            </p:nvSpPr>
            <p:spPr>
              <a:xfrm>
                <a:off x="357120" y="6091200"/>
                <a:ext cx="857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전사고 등에 의한 두부 외상에 의한 치매 증가 추세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직사각형 39"/>
              <p:cNvSpPr/>
              <p:nvPr/>
            </p:nvSpPr>
            <p:spPr>
              <a:xfrm>
                <a:off x="285840" y="5643720"/>
                <a:ext cx="90723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AIDS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독성물질 중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정상압 뇌수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두부 외상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Arial"/>
                  </a:rPr>
                  <a:t>,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Arial"/>
                  </a:rPr>
                  <a:t>대사성 질환에 의한 치매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7" name="그룹 20"/>
            <p:cNvGrpSpPr/>
            <p:nvPr/>
          </p:nvGrpSpPr>
          <p:grpSpPr>
            <a:xfrm>
              <a:off x="285840" y="4286160"/>
              <a:ext cx="8643960" cy="1143000"/>
              <a:chOff x="285840" y="4286160"/>
              <a:chExt cx="8643960" cy="1143000"/>
            </a:xfrm>
          </p:grpSpPr>
          <p:sp>
            <p:nvSpPr>
              <p:cNvPr id="508" name="AutoShape 2"/>
              <p:cNvSpPr/>
              <p:nvPr/>
            </p:nvSpPr>
            <p:spPr>
              <a:xfrm>
                <a:off x="285840" y="4688280"/>
                <a:ext cx="8643960" cy="74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7120" y="4714560"/>
                <a:ext cx="857268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Lewy body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인한 퇴행성 뇌병변에 의해 발생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운동장애와 함께 환각 증상이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타나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정신성 약물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직사각형 24"/>
              <p:cNvSpPr/>
              <p:nvPr/>
            </p:nvSpPr>
            <p:spPr>
              <a:xfrm>
                <a:off x="285840" y="4286160"/>
                <a:ext cx="407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루이소체 치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그룹 7"/>
          <p:cNvGrpSpPr/>
          <p:nvPr/>
        </p:nvGrpSpPr>
        <p:grpSpPr>
          <a:xfrm>
            <a:off x="0" y="0"/>
            <a:ext cx="9358200" cy="6286320"/>
            <a:chOff x="0" y="0"/>
            <a:chExt cx="9358200" cy="6286320"/>
          </a:xfrm>
        </p:grpSpPr>
        <p:sp>
          <p:nvSpPr>
            <p:cNvPr id="512" name="AutoShape 2"/>
            <p:cNvSpPr/>
            <p:nvPr/>
          </p:nvSpPr>
          <p:spPr>
            <a:xfrm>
              <a:off x="285480" y="1357200"/>
              <a:ext cx="8715600" cy="492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치매의 증상과 경과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5" name="그룹 10"/>
            <p:cNvGrpSpPr/>
            <p:nvPr/>
          </p:nvGrpSpPr>
          <p:grpSpPr>
            <a:xfrm>
              <a:off x="357120" y="785520"/>
              <a:ext cx="8643960" cy="5401080"/>
              <a:chOff x="357120" y="785520"/>
              <a:chExt cx="8643960" cy="5401080"/>
            </a:xfrm>
          </p:grpSpPr>
          <p:sp>
            <p:nvSpPr>
              <p:cNvPr id="516" name="AutoShape 4"/>
              <p:cNvSpPr/>
              <p:nvPr/>
            </p:nvSpPr>
            <p:spPr>
              <a:xfrm>
                <a:off x="357120" y="785520"/>
                <a:ext cx="44290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증상과 문제행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7" name="Text Box 6"/>
              <p:cNvSpPr/>
              <p:nvPr/>
            </p:nvSpPr>
            <p:spPr>
              <a:xfrm>
                <a:off x="357120" y="1580760"/>
                <a:ext cx="8643960" cy="46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고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 및 충동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 등과 함께 성격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기능 저하 등으로 인하여 직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인관계의 장애를 초래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지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산능력 장애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정신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망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이상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감동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어반복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화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잣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적 언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어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행동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면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흥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집벽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복행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부행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체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행장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편마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6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일상생활 수행장애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모단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IADL,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이용의 문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7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그룹 5"/>
          <p:cNvGrpSpPr/>
          <p:nvPr/>
        </p:nvGrpSpPr>
        <p:grpSpPr>
          <a:xfrm>
            <a:off x="285840" y="285840"/>
            <a:ext cx="8715240" cy="6071400"/>
            <a:chOff x="285840" y="285840"/>
            <a:chExt cx="8715240" cy="6071400"/>
          </a:xfrm>
        </p:grpSpPr>
        <p:sp>
          <p:nvSpPr>
            <p:cNvPr id="519" name="AutoShape 2"/>
            <p:cNvSpPr/>
            <p:nvPr/>
          </p:nvSpPr>
          <p:spPr>
            <a:xfrm>
              <a:off x="285840" y="928440"/>
              <a:ext cx="8715240" cy="5428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0" name="그룹 10"/>
            <p:cNvGrpSpPr/>
            <p:nvPr/>
          </p:nvGrpSpPr>
          <p:grpSpPr>
            <a:xfrm>
              <a:off x="357120" y="285840"/>
              <a:ext cx="8429760" cy="6025320"/>
              <a:chOff x="357120" y="285840"/>
              <a:chExt cx="8429760" cy="6025320"/>
            </a:xfrm>
          </p:grpSpPr>
          <p:sp>
            <p:nvSpPr>
              <p:cNvPr id="521" name="AutoShape 4"/>
              <p:cNvSpPr/>
              <p:nvPr/>
            </p:nvSpPr>
            <p:spPr>
              <a:xfrm>
                <a:off x="357120" y="285840"/>
                <a:ext cx="45720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치매의 진행단계와 예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2" name="Text Box 6"/>
              <p:cNvSpPr/>
              <p:nvPr/>
            </p:nvSpPr>
            <p:spPr>
              <a:xfrm>
                <a:off x="357120" y="1157400"/>
                <a:ext cx="8429760" cy="51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발병 시점을 정확히 파악하기 어렵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특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의 원인에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 진행단계와 예후는 매우 다양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와 혈관성 치매의 진행단계 비교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초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적 노화로 착각하는 경우 많으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기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욕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울증이 나타나는 경우 많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중간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증상이 눈에 띄게 나타나며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어려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타인 의존성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회나 비정상적 행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남력 상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부의 경우 환각 증상을 나타내기도 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말기단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완전 의존상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한 기억장애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증상의 표출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 유병기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는 평균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정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80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8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 생존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츠하이머형 치매 노인의 경우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내 사망률이 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-37%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이 남성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리고 혈관성 치매노인 보다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또한 늦게 발병한 경우일수록 더 오래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30:14Z</dcterms:modified>
  <cp:revision>28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